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C7A-5D94-4AB1-8D52-A0D2800A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20B-A8AF-42AC-9E4B-9B45738E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EF12D-B944-4A62-8007-9729A505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38D12-CBCA-438B-9994-E6F61371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C7958-0C97-4147-96A7-2BBE0F14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A7A4F-ED56-4D17-B7C5-E7F0C6F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1D032-2C34-4819-AE77-495A5C1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513BD-162A-43CB-901D-D52E520D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C3243-D52C-4D6C-9787-53237584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4FB55-4446-4950-9D82-1CD8A6B9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09D2D-C510-4C55-A0D0-0E9CFD76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95F6B-99BB-4EFA-9888-8A3A264C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893-D117-4BC2-A831-455AD500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67780-3C02-4930-98EF-34399E79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D9712-2D44-4464-99A9-7C9799BF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A005E-2B42-425E-A597-21B8EFBC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CEDFE-D13E-46DC-9A4B-BBBF7AF0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B5618-CE1F-4459-A386-42279D18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D81A6-1C86-4D83-8699-BA55A23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EA9AB-2140-47B5-8547-66C1D7B3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D6E33-3A0B-4A36-93D7-CB62AF67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0B401-51CF-484C-A9B6-256716E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5D645-8CB4-45C9-987E-79E089F3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9C2-D2A0-4B6C-922B-224FAEC5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BC561-1FD4-4256-ABCD-14B8F893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B6873-285D-447C-855E-D5C8D04F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C14A0-CBCC-4D08-852E-A6C862AE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7AEAC-E9CD-48DB-BDD2-8E206FC0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8289D-5945-4C17-B61D-8BD76BFB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E94D1-115E-4A62-A3FC-439D2868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5390E-F302-49D3-8D7C-389BC48D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F6532-B439-4D48-B297-E2CC85ED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D8358-E23B-4A72-B6FB-8E8CADB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FD019-E1E5-4BF0-90AB-8C7DBE3A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4CC5-FAB3-449B-9C46-7B3E7BB1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86352-89E5-4814-A60E-76E1242F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DDE8E-72C6-46E3-87B9-1D681656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2C9AD-067C-48B1-BDAE-773D0771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4B48D-7477-4DAD-9AEC-C00C1AD1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5680F-C1B9-4FAA-AE1B-543CAD3F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38B9E-BB1C-4634-B1A6-3962F13D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6D54B-AC89-455F-990B-6D84B18A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3ACD8-4D2E-4F0F-AB91-169D5941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5660A-BDE1-46F8-BE15-5582A651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C3A09-3F1D-4A4A-AD90-3ADCBF1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E9B6-105D-49AB-952F-896DBEFF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8C082-D56F-46D3-8B57-6FCC4188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23BDA-6536-47E1-BB7D-132E81C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0732A-FB14-47AD-894A-6AABB463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B9BF8-5A59-4841-A4E7-B8B6C13A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96842-264D-4173-928F-F13B5A18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5D018-40B4-47DC-A35E-E3966518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BB620-52E0-4118-BB8B-195FFB71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DF698-1354-4BF6-854A-FE685659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09093-A940-4AAA-A8A1-3E045B34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9D096-218F-460F-9490-204BC007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C876-A9E8-43C8-9295-B9411B1E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8C269-B356-4E7B-A2EA-CB7CA9C7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91F2E-4FF1-49D3-9B10-E5D34187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90F0E-4B4B-4ACB-B5AC-5851B2AE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C7694-C208-4A28-837A-04331B1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4316A-BF47-4219-8E81-0D78EA4B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F3E3F-14F4-44AA-866F-A7769ED0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E45FA-A963-4297-AC5B-8232BE4B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A2B6-40F8-4E41-82D5-166FF6D1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0C76-B9A1-4529-A8C1-9F6C33C7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0F63-C18C-4E95-B556-35870278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8590-2A1E-4396-B5C7-384D363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1A4-4587-4DD9-9EDE-3FD1BBC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7D1B-5BD0-46C2-9305-EEF078D7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6E9E-4D33-4451-A2A1-6E46E01C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EC8A-CD32-4912-92E5-534FF9D8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1403-31B4-4628-A1E8-19275A3F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3F3E-4D4B-41A4-8EF3-B799A4FB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A274-4797-47E0-973E-4E08362B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274D-ED24-4AC0-8537-9B7792ED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4A95E-5396-4D97-9312-861482E3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4752-851F-458F-9DBA-133311A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B056-EE68-4786-9DA6-D51A806E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193-06F0-4131-B233-BE6FCA51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FF29-B37E-43A9-A00C-E04E45D8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F135-9DF3-4789-A86A-636934F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6C7D-DABE-4D33-8BA0-D38B64D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9EFB-8907-41A8-B09C-16F7CAF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CFA3-7D9A-4E37-9399-0B1129F3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3127-A2D4-4CC0-B39C-CFFFCCC9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5660-44C4-4E6F-A269-E0FF4D35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629B-8307-4751-B857-514FA559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A5AC-1C1B-40B0-B16B-0D18DFBB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60D5-EDF7-4BA3-8411-30808A4C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546-4A49-418C-B121-86586C60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22C52-2F45-4451-8BF3-03516EA8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62D7B-71FE-47B8-A014-DDC1FE77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B7514-D177-48D0-91C3-EE630E65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76EB-A317-4B3A-B835-AA64092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E6BDB-5BBB-4A99-93F3-F61951F9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2004-3E20-48C8-B28F-33E904D7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84128-B367-470F-9109-0EF30E75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1101-7ACE-49EF-8FEF-EC4672F1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718C-DDD5-4F34-803C-DD2C171F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2535A-C4BC-40D7-AC55-FC0FCEF5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797-39A8-4374-862D-C45AD7EB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6A9A5-96E2-49DC-99A1-57960776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4F9B0-2D2D-474D-8239-E007ED1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EA06E-6788-48A4-B815-857450D2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77DEB-123F-44E0-9645-B2DEE77E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2DD96-CF3A-4056-A1D6-4AB29182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6AD7-5B3E-449B-B412-E486A6C3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2A3A4-4A09-447D-9BF0-F655F6EA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A17B1-089E-49F9-A9CB-C17B71A0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59623-EB19-4127-9DD7-3C4B63CF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3A468-183D-4861-A9F6-487F6B9C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D9E-99F2-468D-8D6A-FB0FAEDF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7F49-5674-44CC-99A3-E7113DBE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52192-B476-4880-BF83-44DBB721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0DABC-8B60-41D7-BE1D-5B34CDAB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7F33E-26F9-47C1-97FB-FE255A9D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21C2F-8108-4B70-8DED-A0EC28CD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DEA01-DD51-4D71-B034-6EE50323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AD695-29F7-4FBF-A9E4-44F7AB77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02A3-DDBA-4243-BB90-B8B86949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F0F14-B19A-4611-82D3-E9DF4E8F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0525-6E35-42A9-9318-34107978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C44-0D2B-49F7-8466-30BBFE2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962D-69EA-41E8-8A70-58910438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B4FF2-13F3-47B5-8934-67733F60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546BD-2970-41B2-8D04-3707DBF5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8004B-3E95-43C3-BE5B-0419CC37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DF4D6-3EBC-4192-B48A-10C60622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42F37-CAA5-49EA-9F7C-61AD4B58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7A46C-FF68-495F-8312-63A6CCAE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A3F13-E8A9-47B5-BA03-0FF4DDFB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94CB4-4DE6-4C27-9689-39F1EC94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661B2-C525-41C3-AE89-D3D753C8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767-B7A8-492B-9701-4BE58C5E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8367-0FB4-4208-910F-D5EC0626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AF18D-4B69-4BA0-B0C7-39446714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D53CC-FDC4-4118-A583-87E3296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2A768-CD51-4FFF-A907-B84C10D9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19857-9826-4654-AF50-0B2DEEF4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E3638-CC36-4E3F-85DE-1E755EE0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F6314-8762-45E4-99AC-919FE0DD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96C1A-F185-4991-9CA7-201737D3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8A187-5399-4A3D-9190-F04C9052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A279D-96FF-448E-BA36-E48E4BC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617-3F05-4880-AEF6-A09C1FD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FDC2B-6A54-4C46-8CD6-CD1B43DC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F09BA-696B-47C2-8D7D-19F8DBBA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2264-0901-4D22-AB36-0E391886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2FF2A-9071-4DB8-B1EB-9A8AE38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326CA-4967-4423-BCA6-956FDE28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5B4AD-17EB-48D4-8759-C79AF0A6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B467E-D484-4578-AD0F-C091A400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10D44-B8F3-4B6F-ABBF-3DE55048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CE608-D78B-4C10-831A-6BB5184E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CFFEB-6AB8-441E-9657-7CB8F4CB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B5C9-3587-4278-A8BB-B0CDE992E2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862E-259D-41D5-B686-6309F4B6EA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65B6-D327-4099-970C-B63EEB82C5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4248-8772-42A4-8F3B-14784DA97A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BEA3-152D-4B4A-A961-816A4C40EA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ADF7-81C9-41F6-94C1-7B0A48FA23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520C-521E-4670-8D61-D1636966CF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6E94-A591-4C88-A9C6-86EA96A8D5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1B4C-63C2-41E4-90A2-1E043466E3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D7A7-EEE1-41BE-9F13-5560FAD1F2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CE6B-CAB4-4891-B433-CA76597C92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FBE8-C16E-4C84-935C-B24732FBC5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4116-3B14-4A3A-81E3-882B758A1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8028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00"/>
                </a:solidFill>
                <a:latin typeface="American Retro"/>
              </a:rPr>
              <a:t>Смежные   уг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63640" y="907560"/>
            <a:ext cx="640080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тр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3"/>
          <p:cNvSpPr/>
          <p:nvPr/>
        </p:nvSpPr>
        <p:spPr>
          <a:xfrm>
            <a:off x="1800360" y="2060640"/>
            <a:ext cx="73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ответов –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&l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авильных решений –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611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99"/>
                </a:solidFill>
                <a:uFillTx/>
                <a:latin typeface="American Retro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ить 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611360" indent="0" algn="ctr">
              <a:spcBef>
                <a:spcPts val="1100"/>
              </a:spcBef>
              <a:buNone/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тему « Смежные углы»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Olietta script-Poesia"/>
              </a:rPr>
              <a:t>Спасибо за урок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5" name="Line 10"/>
          <p:cNvSpPr/>
          <p:nvPr/>
        </p:nvSpPr>
        <p:spPr>
          <a:xfrm>
            <a:off x="3276720" y="3213000"/>
            <a:ext cx="3311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V="1">
            <a:off x="3276720" y="1484280"/>
            <a:ext cx="1942920" cy="1728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 flipH="1" flipV="1">
            <a:off x="2916000" y="1052280"/>
            <a:ext cx="360360" cy="21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48616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534528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656928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2968560" y="316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618360" y="3592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0"/>
          <p:cNvSpPr/>
          <p:nvPr/>
        </p:nvSpPr>
        <p:spPr>
          <a:xfrm rot="19088400">
            <a:off x="3636720" y="2059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2"/>
          <p:cNvSpPr/>
          <p:nvPr/>
        </p:nvSpPr>
        <p:spPr>
          <a:xfrm>
            <a:off x="7236000" y="5516640"/>
            <a:ext cx="1152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Дуга 26"/>
          <p:cNvSpPr/>
          <p:nvPr/>
        </p:nvSpPr>
        <p:spPr>
          <a:xfrm>
            <a:off x="3571920" y="2928960"/>
            <a:ext cx="142920" cy="50004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  <a:lnTo>
                  <a:pt x="71438" y="250031"/>
                </a:lnTo>
                <a:close/>
              </a:path>
              <a:path fill="none" w="142875" h="500062">
                <a:moveTo>
                  <a:pt x="71438" y="0"/>
                </a:moveTo>
                <a:lnTo>
                  <a:pt x="71438" y="0"/>
                </a:lnTo>
                <a:arcTo wR="71438" hR="250031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Дуга 30"/>
          <p:cNvSpPr/>
          <p:nvPr/>
        </p:nvSpPr>
        <p:spPr>
          <a:xfrm>
            <a:off x="3000240" y="2928960"/>
            <a:ext cx="500040" cy="7128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71280"/>
              <a:gd name="textAreaBottom" fmla="*/ 35640 h 71280"/>
            </a:gdLst>
            <a:ahLst/>
            <a:rect l="textAreaLeft" t="textAreaTop" r="textAreaRight" b="textAreaBottom"/>
            <a:pathLst>
              <a:path stroke="0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  <a:lnTo>
                  <a:pt x="250032" y="35719"/>
                </a:lnTo>
                <a:close/>
              </a:path>
              <a:path fill="none" w="500063" h="71437">
                <a:moveTo>
                  <a:pt x="250032" y="0"/>
                </a:moveTo>
                <a:lnTo>
                  <a:pt x="250032" y="0"/>
                </a:lnTo>
                <a:arcTo wR="250032" hR="35719" stAng="-5400000" swAng="5400014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Дуга 31"/>
          <p:cNvSpPr/>
          <p:nvPr/>
        </p:nvSpPr>
        <p:spPr>
          <a:xfrm>
            <a:off x="2857680" y="2786040"/>
            <a:ext cx="785520" cy="117360"/>
          </a:xfrm>
          <a:custGeom>
            <a:avLst/>
            <a:gdLst>
              <a:gd name="textAreaLeft" fmla="*/ 392760 w 785520"/>
              <a:gd name="textAreaRight" fmla="*/ 785880 w 785520"/>
              <a:gd name="textAreaTop" fmla="*/ 0 h 117360"/>
              <a:gd name="textAreaBottom" fmla="*/ 58680 h 117360"/>
            </a:gdLst>
            <a:ahLst/>
            <a:rect l="textAreaLeft" t="textAreaTop" r="textAreaRight" b="textAreaBottom"/>
            <a:pathLst>
              <a:path stroke="0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  <a:lnTo>
                  <a:pt x="392907" y="58738"/>
                </a:lnTo>
                <a:close/>
              </a:path>
              <a:path fill="none" w="785813" h="117475">
                <a:moveTo>
                  <a:pt x="392907" y="0"/>
                </a:moveTo>
                <a:lnTo>
                  <a:pt x="392907" y="0"/>
                </a:lnTo>
                <a:arcTo wR="392907" hR="58738" stAng="-5400000" swAng="5400009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9" name="Line 17"/>
          <p:cNvSpPr/>
          <p:nvPr/>
        </p:nvSpPr>
        <p:spPr>
          <a:xfrm>
            <a:off x="2195640" y="2421000"/>
            <a:ext cx="489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8"/>
          <p:cNvSpPr/>
          <p:nvPr/>
        </p:nvSpPr>
        <p:spPr>
          <a:xfrm flipV="1">
            <a:off x="4286160" y="474480"/>
            <a:ext cx="1871640" cy="19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932360" y="191628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059640" y="17733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3761280" y="25844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2556000" y="5445000"/>
            <a:ext cx="446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3"/>
          <p:cNvSpPr/>
          <p:nvPr/>
        </p:nvSpPr>
        <p:spPr>
          <a:xfrm flipV="1">
            <a:off x="4643280" y="3573000"/>
            <a:ext cx="0" cy="187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48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3040200" y="486396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977280" y="57531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4643280" y="5300640"/>
            <a:ext cx="14472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4500720" y="5300640"/>
            <a:ext cx="142560" cy="144360"/>
          </a:xfrm>
          <a:prstGeom prst="rect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9"/>
          <p:cNvSpPr/>
          <p:nvPr/>
        </p:nvSpPr>
        <p:spPr>
          <a:xfrm>
            <a:off x="7164360" y="2637000"/>
            <a:ext cx="129708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Дуга 21"/>
          <p:cNvSpPr/>
          <p:nvPr/>
        </p:nvSpPr>
        <p:spPr>
          <a:xfrm>
            <a:off x="4429080" y="2214720"/>
            <a:ext cx="142920" cy="357120"/>
          </a:xfrm>
          <a:custGeom>
            <a:avLst/>
            <a:gdLst>
              <a:gd name="textAreaLeft" fmla="*/ 71640 w 142920"/>
              <a:gd name="textAreaRight" fmla="*/ 143280 w 142920"/>
              <a:gd name="textAreaTop" fmla="*/ 0 h 357120"/>
              <a:gd name="textAreaBottom" fmla="*/ 178560 h 357120"/>
            </a:gdLst>
            <a:ahLst/>
            <a:rect l="textAreaLeft" t="textAreaTop" r="textAreaRight" b="textAreaBottom"/>
            <a:pathLst>
              <a:path stroke="0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  <a:lnTo>
                  <a:pt x="71438" y="178594"/>
                </a:lnTo>
                <a:close/>
              </a:path>
              <a:path fill="none" w="142875" h="357187">
                <a:moveTo>
                  <a:pt x="71438" y="0"/>
                </a:moveTo>
                <a:lnTo>
                  <a:pt x="71438" y="0"/>
                </a:lnTo>
                <a:arcTo wR="71438" hR="178594" stAng="-5400000" swAng="5400000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Дуга 23"/>
          <p:cNvSpPr/>
          <p:nvPr/>
        </p:nvSpPr>
        <p:spPr>
          <a:xfrm flipV="1" rot="10129200">
            <a:off x="3960360" y="2194560"/>
            <a:ext cx="571680" cy="377640"/>
          </a:xfrm>
          <a:custGeom>
            <a:avLst/>
            <a:gdLst>
              <a:gd name="textAreaLeft" fmla="*/ 47520 w 571680"/>
              <a:gd name="textAreaRight" fmla="*/ 564120 w 571680"/>
              <a:gd name="textAreaTop" fmla="*/ 0 h 377640"/>
              <a:gd name="textAreaBottom" fmla="*/ 145800 h 377640"/>
            </a:gdLst>
            <a:ahLst/>
            <a:rect l="textAreaLeft" t="textAreaTop" r="textAreaRight" b="textAreaBottom"/>
            <a:pathLst>
              <a:path stroke="0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  <a:lnTo>
                  <a:pt x="285750" y="188913"/>
                </a:lnTo>
                <a:close/>
              </a:path>
              <a:path fill="none" w="571500" h="377825">
                <a:moveTo>
                  <a:pt x="47592" y="84520"/>
                </a:moveTo>
                <a:lnTo>
                  <a:pt x="47592" y="84520"/>
                </a:lnTo>
                <a:arcTo wR="285750" hR="188913" stAng="-9379841" swAng="8850483"/>
              </a:path>
            </a:pathLst>
          </a:custGeom>
          <a:solidFill>
            <a:srgbClr val="bbe0e3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7020000" y="5805360"/>
            <a:ext cx="143964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6" name="Line 5"/>
          <p:cNvSpPr/>
          <p:nvPr/>
        </p:nvSpPr>
        <p:spPr>
          <a:xfrm>
            <a:off x="4859280" y="3860640"/>
            <a:ext cx="21607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 flipV="1">
            <a:off x="4859280" y="1341360"/>
            <a:ext cx="72072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7"/>
          <p:cNvSpPr/>
          <p:nvPr/>
        </p:nvSpPr>
        <p:spPr>
          <a:xfrm flipH="1">
            <a:off x="1619280" y="3860640"/>
            <a:ext cx="324000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8"/>
          <p:cNvSpPr/>
          <p:nvPr/>
        </p:nvSpPr>
        <p:spPr>
          <a:xfrm flipH="1">
            <a:off x="4211640" y="3357720"/>
            <a:ext cx="792000" cy="5029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9"/>
          <p:cNvSpPr/>
          <p:nvPr/>
        </p:nvSpPr>
        <p:spPr>
          <a:xfrm>
            <a:off x="5005440" y="3284640"/>
            <a:ext cx="503280" cy="936360"/>
          </a:xfrm>
          <a:custGeom>
            <a:avLst/>
            <a:gdLst>
              <a:gd name="textAreaLeft" fmla="*/ 0 w 503280"/>
              <a:gd name="textAreaRight" fmla="*/ 503640 w 5032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fill="none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</a:path>
              <a:path stroke="0" w="25202" h="21600">
                <a:moveTo>
                  <a:pt x="0" y="302"/>
                </a:moveTo>
                <a:cubicBezTo>
                  <a:pt x="1190" y="101"/>
                  <a:pt x="2395" y="-1"/>
                  <a:pt x="3602" y="0"/>
                </a:cubicBezTo>
                <a:cubicBezTo>
                  <a:pt x="15531" y="0"/>
                  <a:pt x="25202" y="9670"/>
                  <a:pt x="25202" y="21600"/>
                </a:cubicBezTo>
                <a:lnTo>
                  <a:pt x="3602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6443640" y="5661000"/>
            <a:ext cx="136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3185280" y="284328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704560" y="3419640"/>
            <a:ext cx="13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5" name="Line 4"/>
          <p:cNvSpPr/>
          <p:nvPr/>
        </p:nvSpPr>
        <p:spPr>
          <a:xfrm>
            <a:off x="2268360" y="3645000"/>
            <a:ext cx="554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 flipV="1">
            <a:off x="4788000" y="1052280"/>
            <a:ext cx="158436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6"/>
          <p:cNvSpPr/>
          <p:nvPr/>
        </p:nvSpPr>
        <p:spPr>
          <a:xfrm flipH="1">
            <a:off x="4500000" y="3357720"/>
            <a:ext cx="431640" cy="28728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7"/>
          <p:cNvSpPr/>
          <p:nvPr/>
        </p:nvSpPr>
        <p:spPr>
          <a:xfrm>
            <a:off x="5003640" y="328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8"/>
          <p:cNvSpPr/>
          <p:nvPr/>
        </p:nvSpPr>
        <p:spPr>
          <a:xfrm>
            <a:off x="5076720" y="3141720"/>
            <a:ext cx="287280" cy="50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4265640" y="2916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60920" y="2987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2"/>
              <p:cNvSpPr txBox="1"/>
              <p:nvPr/>
            </p:nvSpPr>
            <p:spPr>
              <a:xfrm>
                <a:off x="3419640" y="4437000"/>
                <a:ext cx="761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13"/>
          <p:cNvSpPr/>
          <p:nvPr/>
        </p:nvSpPr>
        <p:spPr>
          <a:xfrm>
            <a:off x="4069440" y="4508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14"/>
              <p:cNvSpPr txBox="1"/>
              <p:nvPr/>
            </p:nvSpPr>
            <p:spPr>
              <a:xfrm>
                <a:off x="4932360" y="4437000"/>
                <a:ext cx="7621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Text Box 15"/>
          <p:cNvSpPr/>
          <p:nvPr/>
        </p:nvSpPr>
        <p:spPr>
          <a:xfrm>
            <a:off x="55832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 = 18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6"/>
          <p:cNvSpPr/>
          <p:nvPr/>
        </p:nvSpPr>
        <p:spPr>
          <a:xfrm>
            <a:off x="6588000" y="5661000"/>
            <a:ext cx="1008360" cy="36036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395280" y="907920"/>
          <a:ext cx="8567640" cy="4888080"/>
        </p:xfrm>
        <a:graphic>
          <a:graphicData uri="http://schemas.openxmlformats.org/drawingml/2006/table">
            <a:tbl>
              <a:tblPr/>
              <a:tblGrid>
                <a:gridCol w="4537080"/>
                <a:gridCol w="403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 Box 75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250920" y="1125360"/>
          <a:ext cx="8642160" cy="499932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250920" y="930240"/>
          <a:ext cx="8642160" cy="4998960"/>
        </p:xfrm>
        <a:graphic>
          <a:graphicData uri="http://schemas.openxmlformats.org/drawingml/2006/table">
            <a:tbl>
              <a:tblPr/>
              <a:tblGrid>
                <a:gridCol w="4564080"/>
                <a:gridCol w="4078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а»  «нет»  верный отв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если один из смежных углов острый, то другой тоже остр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торой туп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если один из смежных углов прямой, то другой тоже прям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два смежных угла не могут быть оба тупым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если два угла имеют общую сторону, то они смеж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 всег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умма смежных углов равна 180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58920" y="690840"/>
            <a:ext cx="87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умма двух углов = 200 градусов. Смежные ли эти углы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гол, смежный с углом в 30 градусов является туп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Могут ли два смежных угла быть туп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Т, 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жет ли при пересечении двух прямых образоваться четыре прямых уг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637080" y="1890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3689640" y="2286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9280" y="98208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Если два различных тупых угла имеют общую сторону, то эти углы смежны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Т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Один из двух углов, образованных при пересечении двух прямых – прямой. Остальные углы тоже прямые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А, рис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10:34Z</dcterms:created>
  <dc:creator>Шевчук</dc:creator>
  <dc:description/>
  <dc:language>en-US</dc:language>
  <cp:lastModifiedBy>Макаров</cp:lastModifiedBy>
  <dcterms:modified xsi:type="dcterms:W3CDTF">2012-03-17T10:30:34Z</dcterms:modified>
  <cp:revision>29</cp:revision>
  <dc:subject/>
  <dc:title>Смежные  и вертикальные углы</dc:title>
</cp:coreProperties>
</file>